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81F-599B-4D33-89BB-A6F208D0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FEE-EED8-48B0-B824-26785E2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E06-0A6A-4008-9EF3-9379AF2B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E7A-CBF1-4A09-A3B3-913E0D7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A9C9-4443-445D-B67A-307DD8FC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A84B-1DCD-4477-8370-3A69AE4F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994-82AC-4E9E-A00A-8F1F5388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40AD-1E97-42B5-A05D-5D14D6C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31A8-218C-4D22-9007-28E77F0B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190E-2E93-496C-B76B-C35C982A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FF1A-A9E0-4182-9713-A8C328B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298-7DDB-4C91-9249-156B167D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72BF-EA86-4EBE-BD95-C9801FC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5797-D2FD-4827-AEF8-7E95F74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444D-EB2D-447E-B700-0C73AE4C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06C2-33E5-498D-A32C-416AAA68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4014-FA41-479F-B398-2842D848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8EC-6758-4C91-A58F-9CF0662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373-D2BA-43A2-9694-6A05165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825-8DA3-4BD0-B537-113EC17E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0DC-B449-4990-8CC7-5CE97A24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DEE-795F-4578-AD8F-01A8A64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B25-4115-4876-B6B4-341210B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332-2F1B-4087-835D-9E64CA6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9988-A233-4989-8CD6-FC34F055E1D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39D-DBBD-44D5-AE91-46ECF0BF5A89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age 182 – Chp. 4 – Realidades 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When attaching reflexive or reciprocal pronouns at the end of a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mmand, </a:t>
            </a:r>
            <a:r>
              <a:rPr b="1" lang="es-ES" sz="3200" spc="-1" strike="noStrike">
                <a:solidFill>
                  <a:srgbClr val="00b050"/>
                </a:solidFill>
                <a:latin typeface="Tahoma"/>
              </a:rPr>
              <a:t>drop the final </a:t>
            </a:r>
            <a:r>
              <a:rPr b="1" i="1" lang="es-ES" sz="3200" spc="-1" strike="noStrike">
                <a:solidFill>
                  <a:srgbClr val="00b050"/>
                </a:solidFill>
                <a:latin typeface="Tahoma"/>
              </a:rPr>
              <a:t>–s</a:t>
            </a:r>
            <a:r>
              <a:rPr b="1" lang="es-E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f the command before the pronou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¡Alegré</a:t>
            </a:r>
            <a:r>
              <a:rPr b="1" lang="es-ES" sz="3200" spc="-1" strike="noStrike" u="sng">
                <a:solidFill>
                  <a:srgbClr val="00b0f0"/>
                </a:solidFill>
                <a:uFillTx/>
                <a:latin typeface="Tahoma"/>
              </a:rPr>
              <a:t>mo</a:t>
            </a: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n sus éxitos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et´s be happy about their success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00"/>
                </a:solidFill>
                <a:latin typeface="Tahoma"/>
              </a:rPr>
              <a:t>Abráce</a:t>
            </a:r>
            <a:r>
              <a:rPr b="1" i="1" lang="es-ES" sz="3200" spc="-1" strike="noStrike" u="sng">
                <a:solidFill>
                  <a:srgbClr val="00b0f0"/>
                </a:solidFill>
                <a:uFillTx/>
                <a:latin typeface="Tahoma"/>
              </a:rPr>
              <a:t>mo</a:t>
            </a:r>
            <a:r>
              <a:rPr b="1" i="1" lang="es-ES" sz="3200" spc="-1" strike="noStrike">
                <a:solidFill>
                  <a:srgbClr val="ffcc00"/>
                </a:solidFill>
                <a:latin typeface="Tahoma"/>
              </a:rPr>
              <a:t>nos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  Let’s hu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There are two ways to say 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“Let´s…  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in Spanish.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Vamos a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 + infinitive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3a219"/>
                </a:solidFill>
                <a:latin typeface="Tahoma"/>
              </a:rPr>
              <a:t>Vamos a hacer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 las pace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(Let´s make up.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You can also use a command with a nosotros form which is the nosotros form of the present subjunctive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3a219"/>
                </a:solidFill>
                <a:latin typeface="Tahoma"/>
              </a:rPr>
              <a:t>Resolvamos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 el conflicto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d3a219"/>
                </a:solidFill>
                <a:latin typeface="Tahoma"/>
              </a:rPr>
              <a:t>Let´s resolve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 the conflic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Negative 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o say “Let’s not….”  Just put “no” before the Nosotros command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No reaccione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tan rápido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not react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so quickly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Ir as a nosotros command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*For the verb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i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negative comman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rm is the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subjunctiv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¡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No vayamo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casa!    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Tahoma"/>
              </a:rPr>
              <a:t>Let's not go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ome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ut  the affirmative command  “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</a:rPr>
              <a:t>Let’s go”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uses the </a:t>
            </a:r>
            <a:r>
              <a:rPr b="1" i="1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present tense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¡Vamos a casa!  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Let's go home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r Irse  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</a:rPr>
              <a:t>¡Vámonos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 casa!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member that stem-changing verbs whose infinitive ends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tem change of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&gt;i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o&gt;u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in the nosotros for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Pid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dón por el malentendi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ask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forgiveness for the misunderstandin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durm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l aire libr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sleep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tdoor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Verbs that end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car, -gar, and –z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pelling chan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critiqu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nuestros padre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criticiz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r paren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Empec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pensar un poco en ello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begi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o think a little about the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Tahoma"/>
              </a:rPr>
              <a:t>Juguemos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al mediodía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Tahoma"/>
              </a:rPr>
              <a:t>Let’s play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at no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Direct/indirect object pronouns are attached at the end of affirmative 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command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¡Celebre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la amistad!  ¡</a:t>
            </a: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Celebrémosla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celebrate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our friendship.  </a:t>
            </a:r>
            <a:r>
              <a:rPr b="1" i="1" lang="es-ES" sz="4000" spc="-1" strike="noStrike">
                <a:solidFill>
                  <a:srgbClr val="ffc000"/>
                </a:solidFill>
                <a:latin typeface="Tahoma"/>
              </a:rPr>
              <a:t>Let´s celebrate i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Direct and indirect object pronouns go before the negative 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command form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No le mintamo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000"/>
                </a:solidFill>
                <a:latin typeface="Tahoma"/>
              </a:rPr>
              <a:t>Let´s not lie 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to him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1:00:05Z</dcterms:created>
  <dc:creator>Suzanne M. Shirley</dc:creator>
  <dc:description/>
  <dc:language>en-US</dc:language>
  <cp:lastModifiedBy>Windows User</cp:lastModifiedBy>
  <dcterms:modified xsi:type="dcterms:W3CDTF">2014-05-06T15:52:13Z</dcterms:modified>
  <cp:revision>14</cp:revision>
  <dc:subject/>
  <dc:title>Nosotros Comma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